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C5C1-719D-4D71-BF8F-FC6FE124D7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locar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6C0-E330-48EB-BFE2-FC31322E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AC1-CEA1-4B46-AFAE-A78FCA4C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282-C9E4-4376-B629-C2F6A822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5DA-739F-4D00-98A1-D2CB3372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E1C-222A-4E31-8BD7-4777C9B4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074-4BD9-48D4-BD7F-68ECED17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6A75-2D1A-4CC3-9E40-D0A6025A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C339-BB49-44A2-9569-C33F00FE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3FE-DF06-4831-8A8A-88EE7F0B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848-B83C-4EDD-8083-0A86D7B0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261-B2FD-462F-A0B4-563AE698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54E-CF57-450F-B742-55254B0B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1AE4-58E3-4D95-B7A3-75F191DE4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2280" y="457200"/>
          <a:ext cx="6324840" cy="57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3248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043160" y="6248520"/>
            <a:ext cx="24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Libro Oro de S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2320" y="-15480"/>
            <a:ext cx="65282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ITIVIDAD DE LA HARINA DE PESCADO CON LA HARINA DE SOY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380880"/>
          <a:ext cx="8686800" cy="6286680"/>
        </p:xfrm>
        <a:graphic>
          <a:graphicData uri="http://schemas.openxmlformats.org/drawingml/2006/table">
            <a:tbl>
              <a:tblPr/>
              <a:tblGrid>
                <a:gridCol w="1600200"/>
                <a:gridCol w="2895840"/>
                <a:gridCol w="41907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igen común como fertiliz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anta de soya  utilizada 1134-246 AC. China Dinastía Ch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choveta /sard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00-1400D.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Prim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-140 AC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fermentado Natto, Miso, Salsa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pués como to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on-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cado seco sal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Industrial ( har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1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 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es, Japón,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dir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teína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che de Soya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tabilida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 2´ a 300´ (1980-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entrado prote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ón / Pesca 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82: Marine be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ortancia al año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Milagroso 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: 72’ acres/74’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180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Producto para la acuicultura mundial de ali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: 1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 2.4’ TM (6’ M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y Posicionamiento del mercado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$80’-100’/anho auspiciado por United Soy bean board 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miento 0.5/1.0% del precio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F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R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ar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p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 Banca/Univers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457200"/>
          <a:ext cx="8915400" cy="6149880"/>
        </p:xfrm>
        <a:graphic>
          <a:graphicData uri="http://schemas.openxmlformats.org/drawingml/2006/table">
            <a:tbl>
              <a:tblPr/>
              <a:tblGrid>
                <a:gridCol w="1447920"/>
                <a:gridCol w="2819520"/>
                <a:gridCol w="46479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versión física en la productividad del produ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versión debido a baja digestibilid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taminación 1000m3 de agua / 1 TM Prod. 1 Ha de tierra cultivada rinde 2.5-3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versión debido a alta digest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taminación 1000m3 agua mar / 20TM pescado. 1Ha de superficie cultivada de mar rinde 180/200 TM de pesc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lud y nutri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inutrientes y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ipsina (enzima bloquea absorción proteín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cido phistatico (baja absorción minerales) en Zinc requiere lysina y methi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cuada estructura de amino ácidos y niveles de Zn ingesta de pescado favorece el sistema nervioso y evita la de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meg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ervación del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 larg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ticidas, herbic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z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s inmediatos trazabilidad y presión de no alterar ecosistema Antibióticos, vac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 éxito en la producción y participación de alimentos balanceados inclusive se ofrecen productos con 92%`de digestibilidad y que pueden sustituir el 80% de harina de pes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marones) Producto final: Como carne de vacuno crece al 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participación en la producción de alimentos balanceados .Precios altos incidirán en Mayor sustitución 70% de participación en 1972 y 35% hoy 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stitución, escasa promoción y extensión del producto acu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dida y/o reducción de mercad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ailandia, 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 producto final Desplazamiento d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rcado para acuicultura, Mar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0480" y="685800"/>
            <a:ext cx="5275440" cy="5410080"/>
            <a:chOff x="150480" y="685800"/>
            <a:chExt cx="5275440" cy="5410080"/>
          </a:xfrm>
        </p:grpSpPr>
        <p:sp>
          <p:nvSpPr>
            <p:cNvPr id="120" name=""/>
            <p:cNvSpPr/>
            <p:nvPr/>
          </p:nvSpPr>
          <p:spPr>
            <a:xfrm>
              <a:off x="168120" y="685800"/>
              <a:ext cx="5257800" cy="5410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360" y="2209680"/>
              <a:ext cx="4647960" cy="3124440"/>
            </a:xfrm>
            <a:custGeom>
              <a:avLst/>
              <a:gdLst/>
              <a:ahLst/>
              <a:rect l="l" t="t" r="r" b="b"/>
              <a:pathLst>
                <a:path w="2928" h="1968">
                  <a:moveTo>
                    <a:pt x="0" y="1968"/>
                  </a:moveTo>
                  <a:lnTo>
                    <a:pt x="192" y="1968"/>
                  </a:lnTo>
                  <a:lnTo>
                    <a:pt x="528" y="1920"/>
                  </a:lnTo>
                  <a:lnTo>
                    <a:pt x="768" y="1920"/>
                  </a:lnTo>
                  <a:lnTo>
                    <a:pt x="1056" y="1824"/>
                  </a:lnTo>
                  <a:lnTo>
                    <a:pt x="1344" y="1728"/>
                  </a:lnTo>
                  <a:lnTo>
                    <a:pt x="1632" y="1536"/>
                  </a:lnTo>
                  <a:lnTo>
                    <a:pt x="1824" y="1392"/>
                  </a:lnTo>
                  <a:lnTo>
                    <a:pt x="1968" y="1344"/>
                  </a:lnTo>
                  <a:lnTo>
                    <a:pt x="2064" y="1296"/>
                  </a:lnTo>
                  <a:lnTo>
                    <a:pt x="2256" y="1056"/>
                  </a:lnTo>
                  <a:lnTo>
                    <a:pt x="2448" y="768"/>
                  </a:lnTo>
                  <a:lnTo>
                    <a:pt x="2592" y="432"/>
                  </a:lnTo>
                  <a:lnTo>
                    <a:pt x="2736" y="28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9360" y="4038480"/>
              <a:ext cx="4647960" cy="1371600"/>
            </a:xfrm>
            <a:custGeom>
              <a:avLst/>
              <a:gdLst/>
              <a:ahLst/>
              <a:rect l="l" t="t" r="r" b="b"/>
              <a:pathLst>
                <a:path w="2928" h="864">
                  <a:moveTo>
                    <a:pt x="0" y="864"/>
                  </a:moveTo>
                  <a:lnTo>
                    <a:pt x="192" y="816"/>
                  </a:lnTo>
                  <a:lnTo>
                    <a:pt x="432" y="816"/>
                  </a:lnTo>
                  <a:lnTo>
                    <a:pt x="672" y="768"/>
                  </a:lnTo>
                  <a:lnTo>
                    <a:pt x="1008" y="720"/>
                  </a:lnTo>
                  <a:lnTo>
                    <a:pt x="1152" y="720"/>
                  </a:lnTo>
                  <a:lnTo>
                    <a:pt x="1392" y="672"/>
                  </a:lnTo>
                  <a:lnTo>
                    <a:pt x="1488" y="672"/>
                  </a:lnTo>
                  <a:lnTo>
                    <a:pt x="1584" y="624"/>
                  </a:lnTo>
                  <a:lnTo>
                    <a:pt x="1632" y="672"/>
                  </a:lnTo>
                  <a:lnTo>
                    <a:pt x="1872" y="576"/>
                  </a:lnTo>
                  <a:lnTo>
                    <a:pt x="1968" y="624"/>
                  </a:lnTo>
                  <a:lnTo>
                    <a:pt x="2112" y="480"/>
                  </a:lnTo>
                  <a:lnTo>
                    <a:pt x="2256" y="336"/>
                  </a:lnTo>
                  <a:lnTo>
                    <a:pt x="2400" y="336"/>
                  </a:lnTo>
                  <a:lnTo>
                    <a:pt x="2496" y="336"/>
                  </a:lnTo>
                  <a:lnTo>
                    <a:pt x="2640" y="288"/>
                  </a:lnTo>
                  <a:lnTo>
                    <a:pt x="2736" y="240"/>
                  </a:lnTo>
                  <a:lnTo>
                    <a:pt x="2784" y="144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9360" y="3886200"/>
              <a:ext cx="4724280" cy="1523880"/>
            </a:xfrm>
            <a:custGeom>
              <a:avLst/>
              <a:gdLst/>
              <a:ahLst/>
              <a:rect l="l" t="t" r="r" b="b"/>
              <a:pathLst>
                <a:path w="2976" h="960">
                  <a:moveTo>
                    <a:pt x="0" y="960"/>
                  </a:moveTo>
                  <a:lnTo>
                    <a:pt x="192" y="912"/>
                  </a:lnTo>
                  <a:lnTo>
                    <a:pt x="288" y="960"/>
                  </a:lnTo>
                  <a:lnTo>
                    <a:pt x="432" y="912"/>
                  </a:lnTo>
                  <a:lnTo>
                    <a:pt x="624" y="912"/>
                  </a:lnTo>
                  <a:lnTo>
                    <a:pt x="720" y="912"/>
                  </a:lnTo>
                  <a:lnTo>
                    <a:pt x="864" y="912"/>
                  </a:lnTo>
                  <a:lnTo>
                    <a:pt x="1104" y="864"/>
                  </a:lnTo>
                  <a:lnTo>
                    <a:pt x="1296" y="864"/>
                  </a:lnTo>
                  <a:lnTo>
                    <a:pt x="1440" y="816"/>
                  </a:lnTo>
                  <a:lnTo>
                    <a:pt x="1632" y="816"/>
                  </a:lnTo>
                  <a:lnTo>
                    <a:pt x="1776" y="720"/>
                  </a:lnTo>
                  <a:lnTo>
                    <a:pt x="2064" y="720"/>
                  </a:lnTo>
                  <a:lnTo>
                    <a:pt x="2256" y="576"/>
                  </a:lnTo>
                  <a:lnTo>
                    <a:pt x="2448" y="288"/>
                  </a:lnTo>
                  <a:lnTo>
                    <a:pt x="2640" y="288"/>
                  </a:lnTo>
                  <a:lnTo>
                    <a:pt x="2976" y="0"/>
                  </a:ln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360" y="5334120"/>
              <a:ext cx="4647960" cy="228600"/>
            </a:xfrm>
            <a:custGeom>
              <a:avLst/>
              <a:gdLst/>
              <a:ahLst/>
              <a:rect l="l" t="t" r="r" b="b"/>
              <a:pathLst>
                <a:path w="2928" h="144">
                  <a:moveTo>
                    <a:pt x="0" y="144"/>
                  </a:moveTo>
                  <a:lnTo>
                    <a:pt x="288" y="144"/>
                  </a:lnTo>
                  <a:lnTo>
                    <a:pt x="768" y="144"/>
                  </a:lnTo>
                  <a:lnTo>
                    <a:pt x="1152" y="144"/>
                  </a:lnTo>
                  <a:lnTo>
                    <a:pt x="1536" y="144"/>
                  </a:lnTo>
                  <a:lnTo>
                    <a:pt x="1680" y="96"/>
                  </a:lnTo>
                  <a:lnTo>
                    <a:pt x="1920" y="96"/>
                  </a:lnTo>
                  <a:lnTo>
                    <a:pt x="2112" y="48"/>
                  </a:lnTo>
                  <a:lnTo>
                    <a:pt x="2256" y="48"/>
                  </a:lnTo>
                  <a:lnTo>
                    <a:pt x="2496" y="48"/>
                  </a:lnTo>
                  <a:lnTo>
                    <a:pt x="2688" y="4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74320" y="2295360"/>
              <a:ext cx="17564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Fi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Mollus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Aquatic pl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Crustac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0760" y="1735200"/>
              <a:ext cx="433800" cy="40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40" y="19810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" y="26668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34290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640" y="41148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320" y="487692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760" y="812880"/>
              <a:ext cx="52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 Narrow"/>
                </a:rPr>
                <a:t>Trend of World Aquaculture Production by Spe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00" y="5675400"/>
              <a:ext cx="48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970   1975   1980   1985   1990   1995  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0480" y="145908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Arial"/>
                </a:rPr>
                <a:t>Million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6880" y="228600"/>
            <a:ext cx="51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ACUI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04920" y="533520"/>
          <a:ext cx="609588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958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3505320" y="2209680"/>
            <a:ext cx="19810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523520" y="838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specie: Ju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100,000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91120" y="26668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760" y="2030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ENTABILIDAD DEL RECURSO PELA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685800"/>
          <a:ext cx="54100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54100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638680" y="1066680"/>
            <a:ext cx="990720" cy="454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In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15000" y="4266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1500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3200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1500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19047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7360" y="62485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F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00" y="152280"/>
            <a:ext cx="80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CONSUMO MUNDIAL DE PRODUCTOS PESQU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732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5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328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2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924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8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6960" y="2971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328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3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533520"/>
          <a:ext cx="6019560" cy="58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19560" cy="58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533520"/>
          <a:ext cx="6705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6705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6324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160" y="17524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7793600">
            <a:off x="644040" y="4870800"/>
            <a:ext cx="2628000" cy="14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8448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844853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752600">
            <a:off x="2818440" y="3530160"/>
            <a:ext cx="1060200" cy="339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752600">
            <a:off x="3882600" y="3219120"/>
            <a:ext cx="1401480" cy="40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752600">
            <a:off x="5281920" y="3372480"/>
            <a:ext cx="1195200" cy="355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6"/>
                </a:moveTo>
                <a:arcTo wR="10800" hR="10800" stAng="10645312" swAng="10954688"/>
                <a:lnTo>
                  <a:pt x="10800" y="10800"/>
                </a:lnTo>
                <a:close/>
              </a:path>
              <a:path fill="none" w="21600" h="21600">
                <a:moveTo>
                  <a:pt x="11" y="11286"/>
                </a:moveTo>
                <a:arcTo wR="10800" hR="10800" stAng="10645312" swAng="10954688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 rot="10031400">
            <a:off x="6522120" y="4055040"/>
            <a:ext cx="1018440" cy="247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6" y="7564"/>
                </a:moveTo>
                <a:arcTo wR="10800" hR="10800" stAng="-9753862" swAng="9753862"/>
                <a:lnTo>
                  <a:pt x="10800" y="10800"/>
                </a:lnTo>
                <a:close/>
              </a:path>
              <a:path fill="none" w="21600" h="21600">
                <a:moveTo>
                  <a:pt x="496" y="7564"/>
                </a:moveTo>
                <a:arcTo wR="10800" hR="10800" stAng="-9753862" swAng="9753862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793600">
            <a:off x="-860400" y="3645360"/>
            <a:ext cx="9753120" cy="618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52850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528502"/>
              </a:path>
            </a:pathLst>
          </a:cu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1880" y="524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3296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832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593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19320" y="6235560"/>
            <a:ext cx="6446880" cy="129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15120" y="2060640"/>
            <a:ext cx="0" cy="3170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 rot="10800000">
            <a:off x="70200" y="4224960"/>
            <a:ext cx="1264680" cy="201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16" y="1575"/>
                </a:moveTo>
                <a:arcTo wR="10800" hR="10800" stAng="-3520161" swAng="3346117"/>
                <a:lnTo>
                  <a:pt x="10800" y="10800"/>
                </a:lnTo>
                <a:close/>
              </a:path>
              <a:path fill="none" w="21600" h="21600">
                <a:moveTo>
                  <a:pt x="16416" y="1575"/>
                </a:moveTo>
                <a:arcTo wR="10800" hR="10800" stAng="-3520161" swAng="3346117"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84240" y="5230800"/>
            <a:ext cx="710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02080" y="5694480"/>
            <a:ext cx="35208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952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396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504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1040" y="0"/>
            <a:ext cx="70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bilidades de Pronostico a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99360" y="1447920"/>
            <a:ext cx="20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 Bio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ho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962520"/>
            <a:ext cx="113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592560" y="2915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ncia Cli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0" y="533412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1108080"/>
          <a:ext cx="868680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08080"/>
                    <a:ext cx="868680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14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060560"/>
          <a:ext cx="86868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0560"/>
                    <a:ext cx="868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8640" y="60958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Sin Incluir el Nino Sev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066680"/>
          <a:ext cx="70102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70102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11840" y="45720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28600" y="884160"/>
          <a:ext cx="70866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84160"/>
                    <a:ext cx="7086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35880" y="30492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8:17:32Z</dcterms:created>
  <dc:creator>B&amp;G</dc:creator>
  <dc:description/>
  <dc:language>en-US</dc:language>
  <cp:lastModifiedBy>jore</cp:lastModifiedBy>
  <dcterms:modified xsi:type="dcterms:W3CDTF">2004-03-31T16:45:03Z</dcterms:modified>
  <cp:revision>70</cp:revision>
  <dc:subject/>
  <dc:title>Diapositiva 1</dc:title>
</cp:coreProperties>
</file>